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D0DB7E-7984-4058-BCEF-3B6324782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declarative and procedural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connection between teacher effectiveness and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 and 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7D1-47B9-4293-AA19-842A390E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DFA-1210-4A97-B26D-2DBB811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3B8-541B-4C48-ABEB-A334A6FF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D21-C1EE-4E80-8A9D-C138D4D7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4D8-043F-4B64-BEEC-31566782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F0F-1FC1-4E07-9339-E36EA85D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497-5EB4-4ACE-84CD-438EC08D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D4B-3D63-4C91-AED4-EC50DC2C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A04-2245-4238-B8DA-04037D74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A6E-76BD-48E9-8FB8-E58E9DA3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E5E-8DAE-4984-9B27-23577EBD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A46-85FE-49F7-943C-07535CAB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478C-D621-4E30-B3CD-CF3F2F6779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BF3F-924A-4135-9082-5EEACC933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North Rockland High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800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Make It Happen 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The Power of Communication and Thinking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Tempus Sans ITC"/>
              </a:rPr>
              <a:t>2008-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41972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5A4DC-F3FC-4343-B8D8-4F7AFB6E03DC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empus Sans ITC"/>
              </a:rPr>
              <a:t>Six Pillars of C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ri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 to Excel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 and Character Education (7 Habits of Highly Successful Tee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77963-FA7C-426A-8791-C9B20678EA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Tempus Sans ITC"/>
              </a:rPr>
              <a:t>October 16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zano’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he Art and Science of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at will I do to establish and communicate learning goals, track student progress, and celebrate suc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ey Te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 Assessmen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B08D8-0F11-42EE-B558-8E88135006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empus Sans ITC"/>
              </a:rPr>
              <a:t>We will always revisit our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ree Critic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we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close the gaps in student understanding and abil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Key Term: Greatest Area of Need (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24F59-DBD3-476F-9A3B-E648FEC31287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empus Sans ITC"/>
              </a:rPr>
              <a:t>Scenario and 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Read the scenario “In the Classroom” on pgs. 9-10 from Marzano’s The Art and Science of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ow is student feedback related to effective, teacher goal setting? Discuss at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D30F7-C61C-41BD-BEA7-250BB2762E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Where am I going?</a:t>
            </a: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Go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on Step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reate learning goals and learning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C. Discuss the differences between learning goals and learning activities with a partner or at your table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ead pgs. 17-19 (Action Step One)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on Step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reate rubric for each learning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Key Term: </a:t>
            </a:r>
            <a:r>
              <a:rPr b="0" i="1" lang="en-US" sz="2800" spc="-1" strike="noStrike">
                <a:solidFill>
                  <a:srgbClr val="336600"/>
                </a:solidFill>
                <a:latin typeface="Arial"/>
              </a:rPr>
              <a:t>Know it –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FC951-32F3-44D4-9666-ADABCC3015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Where Am I now?</a:t>
            </a: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ion 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ave students identify their own learning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ion Step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ssess students using a formative appro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D. How are you assessing students in your current unit of study?  How are you using that data to inform instr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Formative, Common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ummative assessments (Regents, fina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376ED-A922-49DA-9DAA-EB98363021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empus Sans ITC"/>
              </a:rPr>
              <a:t>How can I close the g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ion Step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ave students chart their progress on each learning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ion Step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Recognize and celebrate student grow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E. How can you incorporate student goal setting in this current unit of stud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Key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Academic Interventions, Differentiated Instruction, “Perfect Practice”, Greatest Area of Need (G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B1708-65C0-42BF-90DF-DFAC441270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empus Sans ITC"/>
              </a:rPr>
              <a:t>Faculty Meeting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Tempus Sans ITC"/>
              </a:rPr>
              <a:t>October 16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at will I do to establish and communicate learning goals, track student progress, and celebrate suc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055DD-35DB-4BC0-B5FA-73CC1E40EB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38:34Z</dcterms:created>
  <dc:creator>North Rockland High School</dc:creator>
  <dc:description/>
  <dc:language>en-US</dc:language>
  <cp:lastModifiedBy>North Rockland High School</cp:lastModifiedBy>
  <dcterms:modified xsi:type="dcterms:W3CDTF">2008-10-11T19:28:59Z</dcterms:modified>
  <cp:revision>8</cp:revision>
  <dc:subject/>
  <dc:title>Make It Happen  The Power of Communication and Thinking 2008-2009</dc:title>
</cp:coreProperties>
</file>